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1A8-1CCF-4CCF-8027-C3386500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7FB-1B9B-4FEB-97EF-EE6A467F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4DA-3687-4077-BFCC-49100E8A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4B4B-DA85-4C48-8CA4-8AC389DB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C18-0067-406C-92DE-24A38E98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DCC5-459B-4C44-BB0D-E10F01C2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CBE9-01FF-4508-ADAE-FD802CFD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F82-10A9-46A5-B9E6-249D50E3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EF7-6164-4D11-9AAB-2C54BDC4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C339-2AF2-4F17-8ADB-ED7CF515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106D-8C2B-4461-8F84-464DFA1E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983-3BA3-4F9C-86E5-2220BF1A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4610-3505-43E2-919B-0071B299B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3454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ИМУЩЕСТВА ПРИМЕНЕНИЯ ПАРКОВОЧНЫХ СИСТЕМ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ИНИ–РОТОРНОГО ТИПА ДЛЯ АВТОСТОЯН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413000"/>
            <a:ext cx="280836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увеличении плотности жилой застрой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реконструкции зданий с цель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я используемых площад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парковок мини-роторного ти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зволяет решить проблему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вели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рковочных мест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без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увели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лощадей существующих стоян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413000"/>
            <a:ext cx="259056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Эффективное использование земл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 площади, где обычно размещается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 автомобиля можно разместить до 12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Это сокращает площадь дорож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крытий и позволяет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лучшить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экологию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городской среды за сч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увеличения зелёных насажд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и газон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56360" y="1413000"/>
            <a:ext cx="2736720" cy="14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стота и удобство при подготовк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лощадо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незначительные земляны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боты при устройстве фундаментов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ыстрот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борки и установк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арковок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около 5 дней) являются их основным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имуществами и позволяют д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минимума сократить дискомфорт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населения в период строитель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213000"/>
            <a:ext cx="417672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временная техногенная эстетика парковки мини-роторног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ипа вполне соответствует девизу «Парковки-21 век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Яркая цветовая гамма, урбанизированный дизайн, возмож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нообразного декоративного оформления в соответств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окружающей застройкой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озволяют повысить эстетическ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чества городской сред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3213000"/>
            <a:ext cx="374508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Компактное размещение паркуемых автомобиле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зволяет приблизить автостоянки к пользователям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жилой застройке, офисам, больницам, центрам досуга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тдыха, что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значительно повышает комфорт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живания в городской среде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4546440"/>
            <a:ext cx="410364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Наиболее экономная система из предлагаемых в настояще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ремя в нише механизированных парковочных решени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Простая система управления парковкой исключа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зникновение ошибок и не требует специального персо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Наличие систем безопасности полностью исключа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зможность  травмирования людей и механически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вреждений автомобиле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Низкий коэффициент энергопотребления  -  7,5 Кв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Дополнительная защита автомобилей от коррозии за сче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тественной проветриваемости и вентиля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Дополнительная защита автомобилей от уг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принудительное отключение электричества не позвол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ывести автомобиль с парковки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583160"/>
            <a:ext cx="4103640" cy="20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Наиболее удачное решение для паркования автомобилей 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стах с невысокими офисными зданиями, магазинами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ольницами, гостиницами, жилыми домами и т.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Может быть установлена на рекордно маленьких площадях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многим больших габаритов самой системы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При необходимости может быть демонтирована без ущерб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честву и переустановлена на другое место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Конструкция системы разработана для сейсмической зоны с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эффициентом 4 и для регионов с повышенным риском о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йствия сильного ветр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Низкий шумовой уровень и отсутствие вибрации при работ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стемы позволяют ставить конструкции в непосредственно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лизости к зданиям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981000"/>
            <a:ext cx="59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4764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98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32000" y="981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2000" y="98100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6T08:13:20Z</dcterms:created>
  <dc:creator>2</dc:creator>
  <dc:description/>
  <dc:language>en-US</dc:language>
  <cp:lastModifiedBy>Александр</cp:lastModifiedBy>
  <dcterms:modified xsi:type="dcterms:W3CDTF">2006-07-20T05:52:19Z</dcterms:modified>
  <cp:revision>4</cp:revision>
  <dc:subject/>
  <dc:title>ПРЕМУЩЕСТВА ПРИМЕНЕНИЯ ПАРКОВОЧНЫХ СИСТЕМ МИНИ –РОТОРНОГО ТИПА ДЛЯ АВТОСТОЯНОК</dc:title>
</cp:coreProperties>
</file>